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5A1-BEAA-47E9-9B66-E2B40F83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91D-F9CA-4B87-A1E3-9552DB7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011-2E17-4D99-A9D7-550972EC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7B3-DD46-4DE9-A680-D49F5FFB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CE85-36CD-4891-B0D3-C63ECD2F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82C-6CC7-4097-AB35-64D96EC5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4101-2E77-41CE-8EB9-476FA59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7F73-EA3C-4A67-9C35-05417B48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15DF-4B39-4F2D-A3CE-B76F74B7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7529-F39A-4F20-A63B-1F0D06B0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2084-36F9-41B7-988D-BA3D497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E02-1500-49D1-822C-2BDAEFDA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5ADE-9308-4FC1-B225-9F0BC34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492-0F48-4C2A-8D01-5640016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2A5-4451-466E-BA0F-9F5AAB5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C68F-9145-4585-B8B8-E37C9AB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D251-09C9-42AD-837C-D1498C59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177-30EF-4988-830A-104C204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5B0-493A-455D-A6EE-D429529B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86F-E7EF-4BC1-B91C-7FDE1FC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A73-E2F2-4361-B9F8-0D182535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F01-8AD7-45D0-93F7-6361BA0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DD3-F91F-412B-B21F-5C8C7D5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EF3-C313-415E-940A-0C9A8DE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F82-14A6-4426-A9BB-C4F060E716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93B-B909-49C7-8297-314E7B47EE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69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собенности подбора певчих и декоративных птиц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ноземного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исхождения в уголках природы разных возрастных групп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ладшая групп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Птица в клетке как временный 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епить название птицы, знание характерных признаков внешнего вида (отметить, что у птицы есть перья, крылья, она летает; клюёт зёрнышки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ня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845200" y="1828800"/>
            <a:ext cx="74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97520" y="4584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1337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очнить и дополнить знания детей о внешнем виде и повадках птиц. Учить более точно описывать птиц (у неё маленькая голова; маленькие чёрные круглые глаза; тонкие ножки, на них пальцы и т.д.). Расширить знания детей о повадках птички: она купается в воде, чистит пёрышки, поёт. Уточнить и дополнить знания о птичках, её корме. Укреплять интерес к птицам и уходу за ней. Закрепить знания слов: кормушка, купалка, поил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ша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48560" y="6248160"/>
            <a:ext cx="145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18480" y="47293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057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ить знания детей о повадках птиц. Продолжать воспитывать бережное отношение к ним и желание заботиться о хорошем их состоянии. Разнообразить работу дежурных по уходу за птицами, живущих в уголке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дготовительная групп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45560" y="6019560"/>
            <a:ext cx="856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57320" y="4724280"/>
            <a:ext cx="183816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5943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лнистый попугай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5943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477120" y="23623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81680" y="4038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371600"/>
            <a:ext cx="56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расширить знания детей о птицах, живущих в уголке природы. Познакомить с новым жильцом уголка – волнистым попугайчиком. Показать своеобразие внешнего вида и повадок: у него загнутый клюв с восковицей, длинный свисающий хвост, на ногах 2 пальца, направленных вперёд, 1 – назад, окраска пёстрая, рисунок в виде волн, попугайчик летает и лазает. Учить сравнивать попугайчика с другими птицами, отмечая различия и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0-05-16T17:22:1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